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E3D2-503E-4843-B047-8C59DB5E4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C403-3962-4113-856E-4FD57DD1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B781-3DE6-4048-9A10-A83DB2123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FC26-6BBA-44C8-9768-0706233A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5AE3-5F02-444D-AD98-E796D360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4DFB-D44B-4FD1-8227-FADA1BB2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E750-B06C-4B4D-A0E5-CE64ADA9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E56F-CFEC-466F-933B-0C0CD354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871F-52E7-4F90-AAF4-8E7AA1D9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56AC-2429-4AB6-815F-FA3EE0B9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EDBE-2D22-4823-A2D6-02F3971C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22FF-558E-4A68-805B-3C024F1A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9E55-AC43-4014-9AC0-62CF1D1C0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zpo1.ask.com/r?t=a&amp;d=mys&amp;s=ads&amp;c=p&amp;ti=1&amp;ai=30751&amp;l=dis&amp;o=14541&amp;sv=0a5c4235&amp;ip=43bdd877&amp;u=http%3A%2F%2Fwww.flagsonline.it%2FBandiere%2Fbangrandi%2Frussia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bii.gov/images/uploaded/153507_1153350433598_m_Baltic_sea_pollution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greenpeace.org/raw/image_full/russia/en/photosvideos/photos/air-pollution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static.guim.co.uk/sys-images/Guardian/Pix/pictures/2009/11/6/1257508360876/Russian-power-station-001.jpg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www.google.com/imgres?imgurl=http://ci.santa-rosa.ca.us/SiteCollectionImages/PWStorm_waterpollution.jpg&amp;imgrefurl=http://ci.santa-rosa.ca.us/departments/utilities/stormwatercreeks/swpermit&amp;usg=__IJoMYzLDHIljhMWaBGsOgRwU0OU=&amp;h=289&amp;w=269&amp;sz=148&amp;hl=en&amp;start=57&amp;zoom=1&amp;itbs=1&amp;tbnid=JLmkSdUcYMM0LM:&amp;tbnh=115&amp;tbnw=107&amp;prev=/images%3Fq%3DRussian%2Bpollution%26start%3D40%26hl%3Den%26sa%3DN%26gbv%3D2%26ndsp%3D20%26tbs%3Disch:1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russi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ussia’s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Emily Barker and Dejvid Sh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places with severe poll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ere common oil spills during the communist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ople don’t clean up the sp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active waste was dumped into the rivers and oc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sticides and other heavy metals poisoned soil in a lot of ar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nvironmental Issu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re are many polluted 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ny of the places have acid rain i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uclear power left dangerous by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685800"/>
            <a:ext cx="3124080" cy="1905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71800" y="2133720"/>
            <a:ext cx="3124440" cy="2624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3520" y="2819520"/>
            <a:ext cx="2971800" cy="1650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871800" y="387360"/>
            <a:ext cx="3733920" cy="1552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"/>
          <p:cNvPicPr/>
          <p:nvPr/>
        </p:nvPicPr>
        <p:blipFill>
          <a:blip r:embed="rId9"/>
          <a:stretch/>
        </p:blipFill>
        <p:spPr>
          <a:xfrm>
            <a:off x="533520" y="4876920"/>
            <a:ext cx="4495680" cy="175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"/>
          <p:cNvPicPr/>
          <p:nvPr/>
        </p:nvPicPr>
        <p:blipFill>
          <a:blip r:embed="rId10"/>
          <a:stretch/>
        </p:blipFill>
        <p:spPr>
          <a:xfrm>
            <a:off x="5257800" y="5029200"/>
            <a:ext cx="1738440" cy="1552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"/>
          <p:cNvPicPr/>
          <p:nvPr/>
        </p:nvPicPr>
        <p:blipFill>
          <a:blip r:embed="rId11"/>
          <a:stretch/>
        </p:blipFill>
        <p:spPr>
          <a:xfrm>
            <a:off x="7238880" y="2590920"/>
            <a:ext cx="1752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roblems For People and Anim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ison Drinking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ny people suffer from lung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ison Soil can make poison plants that animals 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03:07Z</dcterms:created>
  <dc:creator>Barker Family</dc:creator>
  <dc:description/>
  <dc:language>en-US</dc:language>
  <cp:lastModifiedBy>Barker Family</cp:lastModifiedBy>
  <dcterms:modified xsi:type="dcterms:W3CDTF">2010-12-14T20:17:25Z</dcterms:modified>
  <cp:revision>5</cp:revision>
  <dc:subject/>
  <dc:title>Russia’s Environment</dc:title>
</cp:coreProperties>
</file>